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3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18.wmf" ContentType="image/x-wmf"/>
  <Override PartName="/ppt/media/image4.png" ContentType="image/png"/>
  <Override PartName="/ppt/media/image27.png" ContentType="image/png"/>
  <Override PartName="/ppt/media/image23.wmf" ContentType="image/x-wmf"/>
  <Override PartName="/ppt/media/image22.png" ContentType="image/png"/>
  <Override PartName="/ppt/media/image20.png" ContentType="image/png"/>
  <Override PartName="/ppt/media/image21.wmf" ContentType="image/x-wmf"/>
  <Override PartName="/ppt/media/image19.wmf" ContentType="image/x-wmf"/>
  <Override PartName="/ppt/media/image17.png" ContentType="image/png"/>
  <Override PartName="/ppt/media/image16.jpeg" ContentType="image/jpeg"/>
  <Override PartName="/ppt/media/image15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23EF-941E-4DCC-ADDA-7F92A22E91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F9BE-2AC3-408B-B1EF-4AB188E186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ADC7-C47F-4EAD-A99D-C9BC064C0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41BE-1855-4762-93FE-B44FC53F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9052-00A5-4F93-ACD0-F5FAB81F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9709-95BD-4BAC-B6C3-B8163F69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BA22-0A59-43F2-9063-8F7BE3A61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893A-440C-4421-A4F3-64AEDFDB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188A-17A3-4D6C-81EC-92AA7A4C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4803-E26B-4ACE-A12C-E3970166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E9C1-7686-43EB-8A56-D69A9D9B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EC5D-FB08-4F5A-81B2-14373C31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F05D-4A1D-4420-BF1B-47B45589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A343-D092-491A-A967-E9EB1661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9915-C498-4997-AFC6-709D9559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4424-2BA0-43EF-AE9B-81E7DEFA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0EF4-05C3-4C13-A44E-7DA10A2A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0CB0-29D3-4A37-9053-D9B9C8273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C460-4680-4FA6-BBBE-53C5BCBF5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8A5C0-F49F-4B52-8319-5A7B8CF01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DC949-825D-4884-9B6C-6577D757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9B050-5E5B-45AF-A84C-3B550E7A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3E662-D393-4F9F-A51F-E02E00B4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8EF50-324C-4199-8271-D18A6B98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12B3-1121-40AF-B88F-86EDB224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5EFC5-BBFA-48BF-8719-3A95B986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0BDDF-C08B-440F-BB0B-1123C0D3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4A8A6-0E0B-46EF-A17A-A2276C0A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41570-0975-486F-9223-0F62B499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F0B7D-DC69-4AF8-B916-BF0F577B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87C9A-8D98-458D-BC1B-B479A2E0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D1597-CB7C-4A63-B8C5-253EC00B6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80CEA-B0A4-48D8-99D7-6D8F44B6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07562-1272-4EC2-820F-2CFCE4D7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1DF64-929F-40E3-87FF-60185D4C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078F-6882-41CF-BF05-6ABBCE9C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735C8-7AFE-412A-A400-4C4F3B2E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E96D2-F785-4FCB-9DAE-9A2F6431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DC660-7341-477E-A151-341EAA81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B1D49-8C64-4CAC-A175-FE7B469D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558B6-2A35-4930-BE13-B4E97136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21724-D08D-4922-A1DE-1E5E0547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FD12C-0C14-4286-9F32-53A198CE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4731E-F3F2-4831-A1A1-C310F59D4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6C44A-AE65-4F46-BCB7-73BAA2679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476B3-35DB-4990-AA20-317854A7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2C53-B461-462C-9CA1-522A3C85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FEA1F-C8EB-4539-BFE7-93727C44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2F62C-ED74-4894-86A0-0A7DCE7F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83BA7-649E-455C-9DF9-C73AC4D5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F5378-5F94-4BF5-9083-13E4F289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416B6-16E2-4840-9F95-6537F76D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64DAD-863F-4F8F-A90D-31AE2C7A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8B05C-04E9-4C32-A0FC-119B7C8B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740B9-BB2A-4D5D-ADA7-4DC1F861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730FC-9552-4014-A7A2-4ADFEF3F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DAC1C-A50F-4F64-98FD-C95ED2C80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5F31-7BA8-4270-B6F7-4A32D6F8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F157F-871C-4028-95F5-1CBB72FAC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1802D-A757-419E-88AA-186F6F8D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99D81-212B-43BD-B433-05C424AF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F89DC-0646-4D35-9F31-3E1982BD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80A69-F0AA-466D-BFE2-87F7BF0D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17170-1FCA-4B99-955E-28A4CD08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0295B-1F16-4174-B22C-48FB00FD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88950-CBE3-48C2-8C58-912832AA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E301A-C6FE-4287-9DF1-B3B3AE74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C5363-5D9C-41C0-8566-E13145A6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E587-E6F8-4889-8003-E993C0AA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E5035-27F7-427F-973E-F5A165AA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7A1F4-C419-4C59-A136-5BD687045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C5507-7767-4FBC-B86C-93805041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BDC39-D0F0-4269-AEE5-1F00740D7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48235-AD39-4FE2-A958-CE512F3B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7157F-8784-4671-AE2F-6FE0977A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F07C9-6167-49F8-B835-AD7BE56D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74FF5-8F3A-4167-9C90-0AEBEC1D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1EEDB-40B1-4587-857E-67A05813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6EF0F-97F0-4387-8B48-40B70299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2843-6812-4DE5-8667-57C1A851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3378F-4370-4D34-81A8-5C271CB8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67F71-D816-4DDC-925E-4580CA3A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C6557-A6BE-4D9A-8991-550226E9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943BC-5316-49ED-A647-788534562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0C2FD-877C-4A53-8AFE-FD22328A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D0960-2F54-4AC2-B3C7-C2FDD9A9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6473A-DD77-432E-8BEC-B8A06317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DFC38-17AA-4BC5-850E-2085076C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D4054-56F1-442A-B9B5-0C656255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5337D-055E-4EC4-A15B-CAD50ECE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2D03-62A7-42DF-8112-B6F33CA6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1C470-81AF-487B-86D5-BA3C3EC6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76AAC-B386-4C51-866C-3E888F6C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24C75-C909-4967-B82E-352A87D4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BB2A2-1FCF-4E27-8D07-880B98D0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F5A26-3679-421A-9C76-11ADBD65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04543-490F-4586-AB57-F0C9B965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F3253-9706-46BE-8776-0495E39C3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E9D1-B614-42AA-9C64-F2666746098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2374-BBC0-4B80-89CD-B27C648BC63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C0E2-53A9-4928-8CB8-487C174658C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E809-8B94-4007-9DCD-204673D7BCB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CF82-FBEB-4017-A4F2-6D3EB83C682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F8EA-793C-4CC2-8E09-76AAA983ECD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DBDC-440E-4761-9DCF-17E6588450B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1558-F655-47DE-A6AE-D2D6A377963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755640" y="1444680"/>
            <a:ext cx="7785000" cy="19875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990720" y="373356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Chris Bottiglier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Rajan Vedamanicka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1" name="Content Placeholder 1"/>
          <p:cNvSpPr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or the indebted college student, these three cards were the most pertinent options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1828800" y="2209680"/>
            <a:ext cx="497196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4" name="Content Placeholder 1"/>
          <p:cNvSpPr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6" descr=""/>
          <p:cNvPicPr/>
          <p:nvPr/>
        </p:nvPicPr>
        <p:blipFill>
          <a:blip r:embed="rId2"/>
          <a:stretch/>
        </p:blipFill>
        <p:spPr>
          <a:xfrm>
            <a:off x="1276200" y="1386000"/>
            <a:ext cx="659160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model can be used for different demographic patterns based on gender, spending habits, geographic locations et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model can be enhanced to understand different consumer spending patterns and enter a list of cards belonging to them instead of different compan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model can be flexible to other similar applications like choosing the vacation spot, holiday package, resort et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530280" y="2432160"/>
            <a:ext cx="82422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0" name="Content Placeholder 3" descr=""/>
          <p:cNvPicPr/>
          <p:nvPr/>
        </p:nvPicPr>
        <p:blipFill>
          <a:blip r:embed="rId2"/>
          <a:stretch/>
        </p:blipFill>
        <p:spPr>
          <a:xfrm>
            <a:off x="390600" y="1432080"/>
            <a:ext cx="83628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user could decide which card will suit his needs based on his spending pattern and other choices like preferred hotel, flier, credit card servicers, average expected balance et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model takes into account the uncertainty in spending and bunch of other factors to help the user choose the right car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model takes the mean and standard deviation of a typical user data and ranks the list of cards available in the matrix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also tries to rank the cards for different income group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ough all the assumption run together the model only forecasts for the choice given by the us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ypically it tries to run on five different assumptio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8229600" cy="3930480"/>
          </a:xfrm>
          <a:prstGeom prst="rect">
            <a:avLst/>
          </a:prstGeom>
          <a:ln w="0">
            <a:noFill/>
          </a:ln>
        </p:spPr>
      </p:pic>
      <p:sp>
        <p:nvSpPr>
          <p:cNvPr id="387" name="Content Placeholder 1"/>
          <p:cNvSpPr/>
          <p:nvPr/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rve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ending patter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image-1.jpg"/>
          <p:cNvPicPr/>
          <p:nvPr/>
        </p:nvPicPr>
        <p:blipFill>
          <a:blip r:embed="rId2"/>
          <a:stretch/>
        </p:blipFill>
        <p:spPr>
          <a:xfrm>
            <a:off x="2971800" y="2362320"/>
            <a:ext cx="380988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  <p:pic>
        <p:nvPicPr>
          <p:cNvPr id="392" name="Content Placeholder 5" descr="image-3.jpg"/>
          <p:cNvPicPr/>
          <p:nvPr/>
        </p:nvPicPr>
        <p:blipFill>
          <a:blip r:embed="rId2"/>
          <a:stretch/>
        </p:blipFill>
        <p:spPr>
          <a:xfrm>
            <a:off x="1238400" y="1487520"/>
            <a:ext cx="666720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7629480" cy="19969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"/>
          <p:cNvPicPr/>
          <p:nvPr/>
        </p:nvPicPr>
        <p:blipFill>
          <a:blip r:embed="rId3"/>
          <a:stretch/>
        </p:blipFill>
        <p:spPr>
          <a:xfrm>
            <a:off x="6629400" y="1295280"/>
            <a:ext cx="1905120" cy="2502000"/>
          </a:xfrm>
          <a:prstGeom prst="rect">
            <a:avLst/>
          </a:prstGeom>
          <a:ln w="0">
            <a:noFill/>
          </a:ln>
        </p:spPr>
      </p:pic>
      <p:sp>
        <p:nvSpPr>
          <p:cNvPr id="396" name="Content Placeholder 1"/>
          <p:cNvSpPr/>
          <p:nvPr/>
        </p:nvSpPr>
        <p:spPr>
          <a:xfrm>
            <a:off x="457200" y="1295280"/>
            <a:ext cx="5867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ncome level drives spending patterns and crystal ball runs results based on normal distribution.  Affects points and spending bon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Remaining survey results do not utilize CB, but a value is calculated for each question which determines the value of that attrib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Model then ranks credit card by highest s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8" name="Content Placeholder 1"/>
          <p:cNvSpPr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s predicted, each type of consumer had a different preference for a preferred credit c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he Crystal Ball simulation had more of an impact on lower spending levels.  Implicit within the dataset are spending bands under which a credit card becomes most effec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imulation would offer a lot more variability had we not limited dataset to only the top credit cards on the mar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6" descr=""/>
          <p:cNvPicPr/>
          <p:nvPr/>
        </p:nvPicPr>
        <p:blipFill>
          <a:blip r:embed="rId2"/>
          <a:stretch/>
        </p:blipFill>
        <p:spPr>
          <a:xfrm>
            <a:off x="2133720" y="3505320"/>
            <a:ext cx="517212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22:15:53Z</dcterms:created>
  <dc:creator>Rajan</dc:creator>
  <dc:description/>
  <dc:language>en-US</dc:language>
  <cp:lastModifiedBy>Rajan</cp:lastModifiedBy>
  <dcterms:modified xsi:type="dcterms:W3CDTF">2011-05-09T05:37:23Z</dcterms:modified>
  <cp:revision>45</cp:revision>
  <dc:subject/>
  <dc:title>Slide 1</dc:title>
</cp:coreProperties>
</file>